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40C7-3FDC-4FC2-AE07-D5E02EC662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5F023-50CA-41FD-83CE-B8E383DD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851257-AC94-4CA2-B93B-522821AD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5EE4AD-89F1-42DC-8C0D-FA90FA98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5C6B8E-98B2-4064-AA54-05BA9426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7F213E-D599-4674-947C-B9ACB3E3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574BD9-EECC-44F3-B08F-CE2E8075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064982-1E00-44A7-981C-50244FD3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AB843A-0D0A-4E43-A44E-BD3D258A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C78785-BD8B-4F91-B37C-C0901421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E85F1B-310B-4916-8487-1C21F7458C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D2F28-4C23-4570-A732-0F5A255810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D3FC-262A-4DEA-BF44-404061C7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61041-0408-4CE6-A70A-69F10843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10543-58F9-46DD-87AE-A031C5ED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6206F-63C9-4B8B-83A0-CBDDDCFA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0E25D-01D3-48E7-95F7-194E9929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37826-2BC1-495C-9827-3DE41BCC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8A6F2-0B46-4A8B-A9FB-96BF6773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41703-243E-42F0-97C7-368956DD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8EE6D-14DE-4241-87A8-6EE476F8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975D3-E764-4C84-97BD-F6A7949A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F05C6-F1EA-448B-8DF0-49E62642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37DC9-468F-4848-B4C0-C6D409E30E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CFB29-4E01-4E4B-8E5E-745A838BBA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7B5E13-1D02-4E03-A570-20D9C49871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5EB200-7244-492F-9A5D-D42C7DE5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50319B-D8F2-4E19-966E-DF2CE876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843F88-1A2A-4145-B91D-399F383D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10899C-AADD-4A35-9928-7D4F1A01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61DD90-B50A-4FF7-8FF5-75130CAC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439F3C-9C94-4FA4-A392-A39C2C62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4ACFBA-FFDA-470C-975D-E68C3B07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51A7F8-E5B3-4569-A626-AADC9E94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6A08A-D6B4-4404-A6FA-621190D6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FDC55C-66A4-4448-B331-A92EE125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4FA8D5-AE24-4F17-B415-D9406E15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0DF9B8-B938-4B5C-8E33-647B7906C5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1EB9E-14A9-4782-9D46-3E990DAE75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16C18-C812-45D3-9175-025D3896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9E929-AF57-472A-8F10-49B43A82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D2F12-8DE6-4344-934B-1162448F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48EF66-0CB8-4CC8-97EF-48F03E8C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C3125-8DE5-47C1-B995-9F77A5A9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B6C81-E6AC-4F1E-9AC2-EA0DA657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5B154-6DB5-4663-9D22-6A868E23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5255B-A199-4E10-97D1-6524C9E2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B975D-FD57-4B1E-A59C-07B4031A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05871-4B18-4C27-9F20-241756F6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7163B-F066-4A4F-9053-FDB8952C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09A08-ED37-4FD7-8F26-54BE99D2FA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D35EA-4272-4550-9E11-346D189D81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48A71-630C-4D60-AA95-75135553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EE408-0F09-49BB-BC62-3D2C78CC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581BE-B319-4B64-A4F9-AD2A5489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33E05-DCAB-4F45-A7AE-5F9814B2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B948F-86E3-4AC1-8627-7CAB8974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08F42-0F95-4033-8711-D2B24137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82744-5F30-4254-ACC7-0FA66ADE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A0470-B744-4461-A58F-045653B1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1BA3D-6B5B-4E22-930A-84BE8E07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DFE48-9994-4EF2-98D0-D5E07485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5F85F-CB64-46C0-A853-0F0A4928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E27F9-303D-40C7-A71A-9FF43150D2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88D0B-7689-4216-8688-4ED0587D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D6136-0EFC-4D37-886D-D1213E9A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256EF-36C8-4A4D-A4C7-EAD60635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F76B9-544A-423D-BBE3-47426A68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C964C-FB46-4178-99B9-878755BC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62810-8699-412F-8416-EBA4E8D8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D6B30-ED84-48AD-89FA-44261FE7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5F1D0-279C-482D-B4A3-BAD2F7E6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71294-3D90-46B9-95B3-DD49B3A4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BD94B-0BA1-494E-B3A4-7FB3D544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E027D-07AC-43C9-B967-7BCB57E3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FA761-DDAC-48E3-92D0-EC8C5868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F7297-1FE8-4F21-A7D5-1189A3B7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D7AE1-42C5-441E-BD5C-47B3D0B0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1C48D-F48F-4350-A7B7-AF3E7104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EC14E-6770-4926-960A-56EFBA65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B883A-B569-439B-9083-B8CB8840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59DBD-1CF9-4E9C-B69F-CE60DACC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482FA-B06A-4C8A-BE8F-EBE6C3D9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9D7FE-9D85-46B4-938E-A9F2AB22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5B3C8-71D2-4966-8788-64E020A8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F8DB4-5EAC-46B0-9CD9-EE16207D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9CDD1-958A-4FD1-99D2-C9385E12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5427E-D434-4493-9F67-9342A17C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BCA60-7FDD-4F43-BB71-89D9B3E4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3FB4D-45A8-40B3-9530-917AF850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EB619-12D4-4BA2-BC48-A15DF7D9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19FF7-3BC4-4057-9C62-FCFEBEDC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C59F7-7C6C-4160-AF81-B92981FA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DF0A1-91CC-4869-A2E4-85493C21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1EDD8-FD3C-4BE3-BDA4-485A92D9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0BCF7-756E-4BF6-A008-E169C966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50762-6E71-49CA-B7C5-B8B6A60E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F0A44-3F84-41AE-89EC-2934D507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9305B-2276-46F3-9D5D-856E435B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71140-1AD2-4A56-A85F-EBBCE0A6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35A76-6EDD-4F77-9A0D-60215D19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087F8-8BB0-43AD-9A2D-4E9EB66D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25F0A-EB6B-4C07-8444-F0846083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3E3F4-7AD3-43B6-AB03-5FB3D00B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D5184-A50C-4CD3-A783-54C34641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0DB17-D9DC-4975-8D18-EF29F01C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B55D3-3DB4-4785-921B-AE079243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7FE45-95A1-430B-8A01-D75D01AB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38CF1-6836-4038-A49E-D73301B8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21395-C7C3-49DE-AA9D-82BB61A0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E9468-5E70-44C3-ADD5-1BFD42B2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DC4A-430A-4BBC-B93B-475AD063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F4276-655F-438E-8E96-E8EA638F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8BC2E-C7F2-44AE-BC39-430B8003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7F5E5-B93D-4A1B-8036-F94573C4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0187A-815F-45AB-9149-B1205B79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C67EB-098B-4625-9A18-3E13B215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5939D-2006-41C7-86A0-857A77D3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75362-D31F-4975-BEE4-5879D6EB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3476D-C6F3-4CFA-87BD-CB739370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F8D828-7130-4130-9DD5-551A7CAF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9D30F-8802-4067-9D0E-2FBC6B1B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61765-4E1E-4976-B6B6-299035D4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C1293-A01B-487E-8BC1-578DE377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12C71-808C-4ACC-8CAE-E0240023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E8322-9CB8-4A09-B71B-8FFA8589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58AD4-6C43-42A3-8F44-A4615082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50BDF-C6FB-4663-8350-91AC2793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3B89C-B5F8-44FB-96B1-99F73F63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A1EF4-A7C7-4112-8E74-F66C870B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45C70-91FB-4D1E-93A0-E198EEBB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2C762-63D9-417C-B90E-1B0DD0C7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8F251-0BF7-4B4B-AC4D-8A46B4B5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976BD-40F0-4D2F-9169-5050063C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36A8B-A804-4402-978B-1686B3BD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7397FC-A08E-4E68-B7AC-F96B8E13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043E4B-F562-40A5-AF74-FFBF74AD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D0F1BA-B9A0-42BD-A797-B1BF8A61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E31EE-A22F-4D81-8D14-49C9814D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1CCA12-981C-40C7-9A46-86D23601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AEBCF5-7F12-4B51-B98A-A5CAC0A8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713CD1-B11E-4991-A75C-E50D8446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CDFCC6-683C-4821-B7BC-B1824845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A5E4C-36CF-4BEC-9833-D876A758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029D2-BFD4-4231-90B1-3517ABEC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6C2DC-B53A-435C-90D4-19D477B1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3A3ED-62D3-4720-B271-8F6DD13E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6F1DDE-9B22-45AC-ADC7-144F3FCB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16D41-A105-4F0F-A10B-8DB13211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340A3F-A42C-43AA-85D8-0B3C4288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BAEB3-D953-4673-A12D-189ABD60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D0497-AACC-4FE4-84BC-C5358BE2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A9A5A8-F9EB-4FCF-B177-1F0EBA93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B888A2-2B65-4CEA-A06A-3120C7AC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198EB3-7BD6-4D41-880F-30CFC9FA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A4627-A28A-487E-9D77-C1C6A145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C21BA-F9AC-4D44-BDB9-0D9899A8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20AAC-8D4A-479B-A7CF-9E6F729E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0B3098-9CEC-40B7-B323-3F14823A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4E0697-16BD-4976-83E4-A6C85A2E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3BBA97-6495-43E1-B377-A297B0EC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8D1C3B-EFF6-4CE7-BC7A-D9DC60F3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ABCCC-50EE-4139-B93E-B02D0FC6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C0116-84A4-4453-8EA1-A2610881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9A0D4F-78C8-4004-A669-13D41DE2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182A5-6626-442E-8F52-29AEDC87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C90EF-A66F-49F2-A908-19BEB89A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BC8D20-ED79-4B07-A736-EE550DF4F6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4B1FA8-63D6-46B7-AE17-251F681A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CDBE9F-5B36-428B-9D0A-36BE24E9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4720F6-B23D-4A87-8F86-40CDB794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17C58B-6325-4C8F-AF6A-DDB0D8D8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574520-017D-4CF0-BE7D-E723FD88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CAC6F7-3819-473C-9916-0D82CA8C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84FDEF-4C71-41D6-A5D6-9195C279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7FB48E-39D3-4974-A84C-59E1BA6B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66D3A6-2233-430C-8281-63B00CCF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D8B2A5-9408-491C-8C60-6E752D06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346350-ED8B-4F66-A811-21DEAAB6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343C82-F2C5-4825-B9C6-73CBBD9C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A547CF-CFC3-43A1-A990-2996D709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30CD6B-ED2B-4F09-A1A9-875E5F41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2F4C5F-060F-4DFA-B347-7A8C054D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76EE09-77A4-48F4-93F0-68A2CB74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A54066-A94C-4CE9-8723-ADCCA32D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8C899C-74BA-4E40-B308-6E407897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8EF387-14AE-444A-BCA8-3A4362FD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927FB2-7F24-4B1D-9AB4-A15E0425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663FE0-F593-4A2A-A803-0B16698E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1FC124-4D76-4FF1-B0D5-4DAAACB6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8F8DD0-3ED5-45D7-8BDB-B5B21D22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793FAF-9CD5-4BF1-BCD6-7C4ED408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26D937-0D48-435D-BC54-D6A0D597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CEF55F-CAF3-4652-9019-7D194F1A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A00EC8-573F-453E-BEAA-6E715F34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98A439-E0BF-4294-915A-6611A5B4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2D6049-936E-4E4E-9350-7852E3D7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84234A-E7CA-4056-8CF9-D3DD490B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97708-CA36-41E1-BD02-48A65865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EE251-DE66-42F3-B18C-E993A085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0E3AFC-8F13-4BB4-B9D4-07982277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1F7A92-B304-4581-A783-5AE7AE06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88D382-7A38-42C2-868C-F726EF07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7693D3-E47B-409B-A27B-3F8B48A0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150A58-84AE-4E57-B431-A680B5B7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943A82-7081-4354-B278-36A5554B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447035-08C0-44B7-B21A-6A8007CC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6A24DE-8465-40B5-A309-3B3ED0C3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FF69CB-4C59-432E-AA03-8824C064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0D3047-017F-4B13-9660-2DC25303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1BB3B3-5DC5-4F57-983F-E1AB7A5F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0B9AB-F904-4E11-936C-1F434214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8D8236-0230-4501-9150-5B2C9F04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BACB0C-608E-46A5-888E-AB5C4B28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3C29AF-8EB4-4E2F-9E34-35634995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844ED4-D2B4-4596-9B80-A59F3421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3127A5-B1C5-4E85-9B6E-85BF0012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0E5607-9476-45A0-ADA4-8F0366A7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8027CB-39FE-43B4-9C28-C157ED56EB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BA228-6B6D-44BF-A75E-CBB24DF357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6928-4C63-4DDB-A324-7217E950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CD097-6E2B-4424-8252-03470A28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E5EA-2052-4747-B03C-3CD9D5D9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DF03E-6B28-4A65-AFE1-E214CED5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41086-51E1-4AE6-B4EE-6D32C585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A6827-6F20-45B2-9FE6-CD08A60B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4C91F-2F53-46C6-B92E-DF940A7B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CC0D5-F50E-42EC-9A56-A41721CD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1E72-FDB9-442F-9837-538CAA30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A3673-1490-46F2-B3EC-BE2C8ABF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7C600-6ED6-4A86-A88E-CF58770D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EFB42-76CB-43AB-BB60-3D423E6A0F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39610-9A7E-4E8D-9EEE-C18055D8B6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7A94F-A526-45B6-9606-BC7FFEE2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06A89-72D2-4800-B0C9-B9880A27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1BA06A-5550-433C-A999-999E93F6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0BE18-14FD-4D35-AD7C-1775FD9C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0DC9E-108D-44CE-804F-577A8441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4770CD-148C-42BC-9A6B-19A61306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98D3D-4050-49CA-A7CF-80EBEA53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AA3CCC-042F-402D-A345-202F521D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D30DEB-1A14-4434-94DE-6BEDEF6C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A54CE-4194-45FF-96A1-0654A49B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D9AB14-6717-43B4-9B7E-9F681130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335D8-B325-4409-BD35-504C239F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39EC6-82C6-4903-8A79-180B5F650D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F0FFB9-C4AF-4DD0-9B63-ED4CC7BA2A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F023A9-A66A-4719-9353-40BD31D6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F4C4B1-5E73-4F45-AA1F-14B7FF0D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176FA9-2A46-4C58-81E3-35ADAACD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2AA433-966A-4D9A-8232-6B5E3254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982764-D154-4EA3-8E6C-92EF7D35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C4B5EB-5CB1-43C1-B084-BB00BF61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922395-5FD9-413E-9A51-E2E242DE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66C5BD-B985-4681-8C4E-7B45AE68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B35B-FA7B-4113-9C6B-650FF205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EEB47E-FD0A-4091-B676-4556A029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CAA563-1348-471D-A0F4-0863DAC5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CA15B6-3A49-4B57-BF47-E298897621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E8494-1148-415B-9BF7-A8B2FE4AA3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F8BE1-64FB-4EE8-93CC-63A8FA7B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7DE4B-D43C-4B86-A67C-6225D975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A8086-349F-45A0-8313-BB87CFCC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25DA-A6BE-46AB-84F3-2D912DD2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1811D-2D98-48A0-96C6-DAD04474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BBD8E-C761-4B11-BEC5-E413242C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20E4-C46E-48E5-9ED9-6398BE4F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72D3C-F05B-471C-AC95-4D8F5CA2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8A17A-ADD2-4E0A-A483-C7A49A7A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FC0A3-CC5D-4968-97CB-3191FC66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6C177-EC12-4160-9996-93E18506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EF225-804B-48B6-9BB0-F75B3C3EB7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8F6CE-10AC-482D-8DA6-A7A4393231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AA47A-AFF9-4166-8524-2B671C77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8553E-7374-43A5-A15C-F5269C46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711CE-8334-4DDC-A360-85C75F25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061D7-0388-44A3-B780-E8245B8D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6F49-7F06-4C7D-A197-3302DA77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1E337-CAF7-4349-8766-852EC65E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80DCFE-086C-4CFB-BCC1-B04C3BD1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0E6D4-E71F-43F2-A0BE-FA226C9D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329B05-69BA-4008-B5BB-D83BEFB2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3F883-7701-4E91-AA87-08210E2D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62134-E8CB-40FF-8408-C6323367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7C961C-258E-4AF6-BDF1-90F9784E93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477E08-517A-48C8-A8F8-BDBFBA9A05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18F903-082D-49D9-9A3B-1A8609F8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035966-0572-46E7-9FCB-DC063542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F9F4-DDA9-4723-9236-7E3E823D2E1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5689-4DB3-4214-BF74-24ABAA90778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700D-F358-45BC-9338-C5D0142EA9D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CACB-E4A3-4006-8584-7434E0BA0E5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A1A7-41C3-48BF-8DCD-B876E3CF8E5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8999-340E-4CAF-9299-56235728A10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9D6F-DE7D-4133-B46C-90F4126B8E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EB6E-10EE-4FA9-9E73-707F47475C3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4F9F-0297-42C9-8568-61400C9363B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2224-0BB5-4F58-AE6E-80805EB76C9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E476-238B-48D9-821D-DA9A7F40B39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BD82-7C65-45BE-96C4-B500B106A87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8269-12A0-4580-903C-8CE172AFC27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95E5-8F24-43D5-9D5B-958B96E9F87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E968-1344-479A-A8BD-1845493E159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77B4-4DA6-42F1-876B-E8B27125197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EB0D-6614-41F8-A2A1-C60033798B2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1524-C582-4B68-9CD5-012DB008BEC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85A8-CDB6-42A7-9041-917BE6A15DF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A74C-3694-459C-8341-4D0FA818F42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6F14-8880-4C5D-85DA-969F8DD44B6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BDBA-644D-4492-B1C6-2ECA082C851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B34C-DEDC-473C-9736-9BE778BCCBA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C70A-57F1-4E22-B291-6C7DE3E0E63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886120" y="286848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 习  课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527120" y="1744560"/>
            <a:ext cx="910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 识 时 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-2147482622" descr="u7bc01"/>
          <p:cNvPicPr/>
          <p:nvPr/>
        </p:nvPicPr>
        <p:blipFill>
          <a:blip r:embed="rId1"/>
          <a:stretch/>
        </p:blipFill>
        <p:spPr>
          <a:xfrm>
            <a:off x="1184400" y="1339920"/>
            <a:ext cx="6103800" cy="2786040"/>
          </a:xfrm>
          <a:prstGeom prst="rect">
            <a:avLst/>
          </a:prstGeom>
          <a:ln w="0">
            <a:noFill/>
          </a:ln>
        </p:spPr>
      </p:pic>
      <p:sp>
        <p:nvSpPr>
          <p:cNvPr id="999" name="文本框 102"/>
          <p:cNvSpPr/>
          <p:nvPr/>
        </p:nvSpPr>
        <p:spPr>
          <a:xfrm>
            <a:off x="425520" y="866880"/>
            <a:ext cx="45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给下面的钟表画上分针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文本框 2"/>
          <p:cNvSpPr/>
          <p:nvPr/>
        </p:nvSpPr>
        <p:spPr>
          <a:xfrm>
            <a:off x="1171440" y="4065480"/>
            <a:ext cx="64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" descr=""/>
          <p:cNvPicPr/>
          <p:nvPr/>
        </p:nvPicPr>
        <p:blipFill>
          <a:blip r:embed="rId2"/>
          <a:stretch/>
        </p:blipFill>
        <p:spPr>
          <a:xfrm rot="1860000">
            <a:off x="2182680" y="2709720"/>
            <a:ext cx="125640" cy="465120"/>
          </a:xfrm>
          <a:prstGeom prst="rect">
            <a:avLst/>
          </a:prstGeom>
          <a:ln w="0">
            <a:noFill/>
          </a:ln>
        </p:spPr>
      </p:pic>
      <p:pic>
        <p:nvPicPr>
          <p:cNvPr id="1002" name="图片 4" descr=""/>
          <p:cNvPicPr/>
          <p:nvPr/>
        </p:nvPicPr>
        <p:blipFill>
          <a:blip r:embed="rId3"/>
          <a:stretch/>
        </p:blipFill>
        <p:spPr>
          <a:xfrm>
            <a:off x="7372440" y="2189160"/>
            <a:ext cx="1347840" cy="179280"/>
          </a:xfrm>
          <a:prstGeom prst="rect">
            <a:avLst/>
          </a:prstGeom>
          <a:ln w="0">
            <a:noFill/>
          </a:ln>
        </p:spPr>
      </p:pic>
      <p:pic>
        <p:nvPicPr>
          <p:cNvPr id="1003" name="图片 6" descr=""/>
          <p:cNvPicPr/>
          <p:nvPr/>
        </p:nvPicPr>
        <p:blipFill>
          <a:blip r:embed="rId4"/>
          <a:stretch/>
        </p:blipFill>
        <p:spPr>
          <a:xfrm rot="5460000">
            <a:off x="6297840" y="2363040"/>
            <a:ext cx="144360" cy="5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图片 9231" descr="未标题-2"/>
          <p:cNvPicPr/>
          <p:nvPr/>
        </p:nvPicPr>
        <p:blipFill>
          <a:blip r:embed="rId1"/>
          <a:stretch/>
        </p:blipFill>
        <p:spPr>
          <a:xfrm>
            <a:off x="1332000" y="1746360"/>
            <a:ext cx="6480000" cy="3555720"/>
          </a:xfrm>
          <a:prstGeom prst="rect">
            <a:avLst/>
          </a:prstGeom>
          <a:ln w="0">
            <a:noFill/>
          </a:ln>
        </p:spPr>
      </p:pic>
      <p:sp>
        <p:nvSpPr>
          <p:cNvPr id="1005" name="Rectangle 2"/>
          <p:cNvSpPr/>
          <p:nvPr/>
        </p:nvSpPr>
        <p:spPr>
          <a:xfrm>
            <a:off x="533520" y="973080"/>
            <a:ext cx="6143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能准确写出每个钟表所表示的时间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5"/>
          <p:cNvSpPr/>
          <p:nvPr/>
        </p:nvSpPr>
        <p:spPr>
          <a:xfrm>
            <a:off x="3352680" y="3041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7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7"/>
          <p:cNvSpPr/>
          <p:nvPr/>
        </p:nvSpPr>
        <p:spPr>
          <a:xfrm>
            <a:off x="4954680" y="3041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7: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8"/>
          <p:cNvSpPr/>
          <p:nvPr/>
        </p:nvSpPr>
        <p:spPr>
          <a:xfrm>
            <a:off x="6540480" y="3041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9"/>
          <p:cNvSpPr/>
          <p:nvPr/>
        </p:nvSpPr>
        <p:spPr>
          <a:xfrm>
            <a:off x="3276720" y="4797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0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11"/>
          <p:cNvSpPr/>
          <p:nvPr/>
        </p:nvSpPr>
        <p:spPr>
          <a:xfrm>
            <a:off x="4964040" y="4797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9: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12"/>
          <p:cNvSpPr/>
          <p:nvPr/>
        </p:nvSpPr>
        <p:spPr>
          <a:xfrm>
            <a:off x="6521400" y="4797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6: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13"/>
          <p:cNvSpPr/>
          <p:nvPr/>
        </p:nvSpPr>
        <p:spPr>
          <a:xfrm>
            <a:off x="1758960" y="4797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组合 50"/>
          <p:cNvGrpSpPr/>
          <p:nvPr/>
        </p:nvGrpSpPr>
        <p:grpSpPr>
          <a:xfrm>
            <a:off x="558720" y="1050840"/>
            <a:ext cx="2016360" cy="2016360"/>
            <a:chOff x="558720" y="1050840"/>
            <a:chExt cx="2016360" cy="2016360"/>
          </a:xfrm>
        </p:grpSpPr>
        <p:sp>
          <p:nvSpPr>
            <p:cNvPr id="1014" name="Oval 4"/>
            <p:cNvSpPr/>
            <p:nvPr/>
          </p:nvSpPr>
          <p:spPr>
            <a:xfrm>
              <a:off x="558720" y="1050840"/>
              <a:ext cx="2016360" cy="201636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5"/>
            <p:cNvSpPr/>
            <p:nvPr/>
          </p:nvSpPr>
          <p:spPr>
            <a:xfrm>
              <a:off x="634680" y="1118520"/>
              <a:ext cx="1863360" cy="186732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6"/>
            <p:cNvSpPr/>
            <p:nvPr/>
          </p:nvSpPr>
          <p:spPr>
            <a:xfrm>
              <a:off x="1042200" y="1299960"/>
              <a:ext cx="51120" cy="74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7"/>
            <p:cNvSpPr/>
            <p:nvPr/>
          </p:nvSpPr>
          <p:spPr>
            <a:xfrm>
              <a:off x="1541520" y="2890440"/>
              <a:ext cx="0" cy="99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8"/>
            <p:cNvSpPr/>
            <p:nvPr/>
          </p:nvSpPr>
          <p:spPr>
            <a:xfrm>
              <a:off x="1575720" y="1128960"/>
              <a:ext cx="0" cy="997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12"/>
            <p:cNvSpPr/>
            <p:nvPr/>
          </p:nvSpPr>
          <p:spPr>
            <a:xfrm flipH="1">
              <a:off x="1987560" y="1249920"/>
              <a:ext cx="50400" cy="997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13"/>
            <p:cNvSpPr/>
            <p:nvPr/>
          </p:nvSpPr>
          <p:spPr>
            <a:xfrm>
              <a:off x="1995840" y="2761920"/>
              <a:ext cx="59040" cy="882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Line 14"/>
            <p:cNvSpPr/>
            <p:nvPr/>
          </p:nvSpPr>
          <p:spPr>
            <a:xfrm flipH="1">
              <a:off x="1079640" y="2748240"/>
              <a:ext cx="55080" cy="903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15"/>
            <p:cNvSpPr/>
            <p:nvPr/>
          </p:nvSpPr>
          <p:spPr>
            <a:xfrm>
              <a:off x="2395800" y="2072160"/>
              <a:ext cx="1004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16"/>
            <p:cNvSpPr/>
            <p:nvPr/>
          </p:nvSpPr>
          <p:spPr>
            <a:xfrm flipV="1">
              <a:off x="2287440" y="1604880"/>
              <a:ext cx="87120" cy="60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17"/>
            <p:cNvSpPr/>
            <p:nvPr/>
          </p:nvSpPr>
          <p:spPr>
            <a:xfrm>
              <a:off x="2284920" y="2454840"/>
              <a:ext cx="93600" cy="507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Line 18"/>
            <p:cNvSpPr/>
            <p:nvPr/>
          </p:nvSpPr>
          <p:spPr>
            <a:xfrm flipH="1">
              <a:off x="632880" y="2071080"/>
              <a:ext cx="1022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19"/>
            <p:cNvSpPr/>
            <p:nvPr/>
          </p:nvSpPr>
          <p:spPr>
            <a:xfrm flipH="1">
              <a:off x="761400" y="2490120"/>
              <a:ext cx="88920" cy="615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20"/>
            <p:cNvSpPr/>
            <p:nvPr/>
          </p:nvSpPr>
          <p:spPr>
            <a:xfrm flipH="1" flipV="1">
              <a:off x="726840" y="1646640"/>
              <a:ext cx="93960" cy="518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WordArt 21"/>
            <p:cNvSpPr txBox="1"/>
            <p:nvPr/>
          </p:nvSpPr>
          <p:spPr>
            <a:xfrm>
              <a:off x="1909800" y="1375200"/>
              <a:ext cx="7740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29" name="WordArt 22"/>
            <p:cNvSpPr txBox="1"/>
            <p:nvPr/>
          </p:nvSpPr>
          <p:spPr>
            <a:xfrm>
              <a:off x="2166120" y="1648800"/>
              <a:ext cx="10080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0" name="WordArt 23"/>
            <p:cNvSpPr txBox="1"/>
            <p:nvPr/>
          </p:nvSpPr>
          <p:spPr>
            <a:xfrm>
              <a:off x="2266920" y="202212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1" name="WordArt 24"/>
            <p:cNvSpPr txBox="1"/>
            <p:nvPr/>
          </p:nvSpPr>
          <p:spPr>
            <a:xfrm>
              <a:off x="2166120" y="2394720"/>
              <a:ext cx="10080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2" name="WordArt 25"/>
            <p:cNvSpPr txBox="1"/>
            <p:nvPr/>
          </p:nvSpPr>
          <p:spPr>
            <a:xfrm>
              <a:off x="1885320" y="264420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3" name="WordArt 26"/>
            <p:cNvSpPr txBox="1"/>
            <p:nvPr/>
          </p:nvSpPr>
          <p:spPr>
            <a:xfrm>
              <a:off x="1145160" y="264420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4" name="WordArt 27"/>
            <p:cNvSpPr txBox="1"/>
            <p:nvPr/>
          </p:nvSpPr>
          <p:spPr>
            <a:xfrm>
              <a:off x="1502280" y="276876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5" name="WordArt 28"/>
            <p:cNvSpPr txBox="1"/>
            <p:nvPr/>
          </p:nvSpPr>
          <p:spPr>
            <a:xfrm>
              <a:off x="888840" y="2394720"/>
              <a:ext cx="1022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6" name="WordArt 29"/>
            <p:cNvSpPr txBox="1"/>
            <p:nvPr/>
          </p:nvSpPr>
          <p:spPr>
            <a:xfrm>
              <a:off x="1071000" y="1434600"/>
              <a:ext cx="15408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7" name="WordArt 30"/>
            <p:cNvSpPr txBox="1"/>
            <p:nvPr/>
          </p:nvSpPr>
          <p:spPr>
            <a:xfrm>
              <a:off x="1476360" y="1249920"/>
              <a:ext cx="1792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8" name="WordArt 31"/>
            <p:cNvSpPr txBox="1"/>
            <p:nvPr/>
          </p:nvSpPr>
          <p:spPr>
            <a:xfrm>
              <a:off x="869760" y="1671120"/>
              <a:ext cx="152280" cy="12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9" name="WordArt 33"/>
            <p:cNvSpPr txBox="1"/>
            <p:nvPr/>
          </p:nvSpPr>
          <p:spPr>
            <a:xfrm>
              <a:off x="762120" y="2022120"/>
              <a:ext cx="10152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40" name="Line 34"/>
            <p:cNvSpPr/>
            <p:nvPr/>
          </p:nvSpPr>
          <p:spPr>
            <a:xfrm>
              <a:off x="1528200" y="172332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35"/>
            <p:cNvSpPr/>
            <p:nvPr/>
          </p:nvSpPr>
          <p:spPr>
            <a:xfrm>
              <a:off x="1554120" y="164880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36"/>
            <p:cNvSpPr/>
            <p:nvPr/>
          </p:nvSpPr>
          <p:spPr>
            <a:xfrm>
              <a:off x="1554120" y="169884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Group 68"/>
            <p:cNvGrpSpPr/>
            <p:nvPr/>
          </p:nvGrpSpPr>
          <p:grpSpPr>
            <a:xfrm>
              <a:off x="1542240" y="2075400"/>
              <a:ext cx="399960" cy="640440"/>
              <a:chOff x="1542240" y="2075400"/>
              <a:chExt cx="399960" cy="640440"/>
            </a:xfrm>
          </p:grpSpPr>
          <p:sp>
            <p:nvSpPr>
              <p:cNvPr id="1044" name="AutoShape 69"/>
              <p:cNvSpPr/>
              <p:nvPr/>
            </p:nvSpPr>
            <p:spPr>
              <a:xfrm rot="3540000">
                <a:off x="1425600" y="2334960"/>
                <a:ext cx="643680" cy="6696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562" y="0"/>
                    </a:lnTo>
                    <a:lnTo>
                      <a:pt x="21600" y="10800"/>
                    </a:lnTo>
                    <a:lnTo>
                      <a:pt x="856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AutoShape 70"/>
              <p:cNvSpPr/>
              <p:nvPr/>
            </p:nvSpPr>
            <p:spPr>
              <a:xfrm rot="5400000">
                <a:off x="1278360" y="2408760"/>
                <a:ext cx="570600" cy="43200"/>
              </a:xfrm>
              <a:custGeom>
                <a:avLst/>
                <a:gdLst>
                  <a:gd name="textAreaLeft" fmla="*/ 0 w 570600"/>
                  <a:gd name="textAreaRight" fmla="*/ 570960 w 57060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6" y="0"/>
                    </a:lnTo>
                    <a:lnTo>
                      <a:pt x="21600" y="10800"/>
                    </a:lnTo>
                    <a:lnTo>
                      <a:pt x="121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Group 49"/>
            <p:cNvGrpSpPr/>
            <p:nvPr/>
          </p:nvGrpSpPr>
          <p:grpSpPr>
            <a:xfrm>
              <a:off x="1602000" y="1877040"/>
              <a:ext cx="434880" cy="281880"/>
              <a:chOff x="1602000" y="1877040"/>
              <a:chExt cx="434880" cy="281880"/>
            </a:xfrm>
          </p:grpSpPr>
          <p:sp>
            <p:nvSpPr>
              <p:cNvPr id="1047" name="AutoShape 50"/>
              <p:cNvSpPr/>
              <p:nvPr/>
            </p:nvSpPr>
            <p:spPr>
              <a:xfrm rot="20610600">
                <a:off x="1607400" y="1942200"/>
                <a:ext cx="423360" cy="10152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AutoShape 51"/>
              <p:cNvSpPr/>
              <p:nvPr/>
            </p:nvSpPr>
            <p:spPr>
              <a:xfrm rot="19993800">
                <a:off x="1611360" y="1966680"/>
                <a:ext cx="423360" cy="10188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Oval 86"/>
            <p:cNvSpPr/>
            <p:nvPr/>
          </p:nvSpPr>
          <p:spPr>
            <a:xfrm>
              <a:off x="1508400" y="2009880"/>
              <a:ext cx="13464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组合 1"/>
          <p:cNvGrpSpPr/>
          <p:nvPr/>
        </p:nvGrpSpPr>
        <p:grpSpPr>
          <a:xfrm>
            <a:off x="3521160" y="1058760"/>
            <a:ext cx="2014560" cy="2016360"/>
            <a:chOff x="3521160" y="1058760"/>
            <a:chExt cx="2014560" cy="2016360"/>
          </a:xfrm>
        </p:grpSpPr>
        <p:sp>
          <p:nvSpPr>
            <p:cNvPr id="1051" name="Oval 4"/>
            <p:cNvSpPr/>
            <p:nvPr/>
          </p:nvSpPr>
          <p:spPr>
            <a:xfrm>
              <a:off x="3521160" y="1058760"/>
              <a:ext cx="2014560" cy="201636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5"/>
            <p:cNvSpPr/>
            <p:nvPr/>
          </p:nvSpPr>
          <p:spPr>
            <a:xfrm>
              <a:off x="3597120" y="1126440"/>
              <a:ext cx="1861560" cy="186732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6"/>
            <p:cNvSpPr/>
            <p:nvPr/>
          </p:nvSpPr>
          <p:spPr>
            <a:xfrm>
              <a:off x="4004280" y="1307880"/>
              <a:ext cx="51120" cy="74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7"/>
            <p:cNvSpPr/>
            <p:nvPr/>
          </p:nvSpPr>
          <p:spPr>
            <a:xfrm>
              <a:off x="4503240" y="2898360"/>
              <a:ext cx="0" cy="99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8"/>
            <p:cNvSpPr/>
            <p:nvPr/>
          </p:nvSpPr>
          <p:spPr>
            <a:xfrm>
              <a:off x="4537080" y="1136880"/>
              <a:ext cx="0" cy="997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12"/>
            <p:cNvSpPr/>
            <p:nvPr/>
          </p:nvSpPr>
          <p:spPr>
            <a:xfrm flipH="1">
              <a:off x="4948200" y="1257840"/>
              <a:ext cx="50040" cy="997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13"/>
            <p:cNvSpPr/>
            <p:nvPr/>
          </p:nvSpPr>
          <p:spPr>
            <a:xfrm>
              <a:off x="4956840" y="2769840"/>
              <a:ext cx="58680" cy="882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14"/>
            <p:cNvSpPr/>
            <p:nvPr/>
          </p:nvSpPr>
          <p:spPr>
            <a:xfrm flipH="1">
              <a:off x="4041720" y="2756160"/>
              <a:ext cx="55080" cy="903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15"/>
            <p:cNvSpPr/>
            <p:nvPr/>
          </p:nvSpPr>
          <p:spPr>
            <a:xfrm>
              <a:off x="5356800" y="2080080"/>
              <a:ext cx="1004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16"/>
            <p:cNvSpPr/>
            <p:nvPr/>
          </p:nvSpPr>
          <p:spPr>
            <a:xfrm flipV="1">
              <a:off x="5248080" y="1612800"/>
              <a:ext cx="87120" cy="60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17"/>
            <p:cNvSpPr/>
            <p:nvPr/>
          </p:nvSpPr>
          <p:spPr>
            <a:xfrm>
              <a:off x="5245200" y="2462760"/>
              <a:ext cx="93240" cy="507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18"/>
            <p:cNvSpPr/>
            <p:nvPr/>
          </p:nvSpPr>
          <p:spPr>
            <a:xfrm flipH="1">
              <a:off x="3594960" y="2079000"/>
              <a:ext cx="1018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19"/>
            <p:cNvSpPr/>
            <p:nvPr/>
          </p:nvSpPr>
          <p:spPr>
            <a:xfrm flipH="1">
              <a:off x="3723480" y="2498040"/>
              <a:ext cx="88920" cy="615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20"/>
            <p:cNvSpPr/>
            <p:nvPr/>
          </p:nvSpPr>
          <p:spPr>
            <a:xfrm flipH="1" flipV="1">
              <a:off x="3689280" y="1654560"/>
              <a:ext cx="93960" cy="518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WordArt 21"/>
            <p:cNvSpPr txBox="1"/>
            <p:nvPr/>
          </p:nvSpPr>
          <p:spPr>
            <a:xfrm>
              <a:off x="4871160" y="1383120"/>
              <a:ext cx="7740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66" name="WordArt 22"/>
            <p:cNvSpPr txBox="1"/>
            <p:nvPr/>
          </p:nvSpPr>
          <p:spPr>
            <a:xfrm>
              <a:off x="5127120" y="1656720"/>
              <a:ext cx="10044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67" name="WordArt 23"/>
            <p:cNvSpPr txBox="1"/>
            <p:nvPr/>
          </p:nvSpPr>
          <p:spPr>
            <a:xfrm>
              <a:off x="5227920" y="203004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68" name="WordArt 24"/>
            <p:cNvSpPr txBox="1"/>
            <p:nvPr/>
          </p:nvSpPr>
          <p:spPr>
            <a:xfrm>
              <a:off x="5127120" y="2402640"/>
              <a:ext cx="1004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69" name="WordArt 25"/>
            <p:cNvSpPr txBox="1"/>
            <p:nvPr/>
          </p:nvSpPr>
          <p:spPr>
            <a:xfrm>
              <a:off x="4846680" y="265212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70" name="WordArt 26"/>
            <p:cNvSpPr txBox="1"/>
            <p:nvPr/>
          </p:nvSpPr>
          <p:spPr>
            <a:xfrm>
              <a:off x="4107240" y="265212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71" name="WordArt 27"/>
            <p:cNvSpPr txBox="1"/>
            <p:nvPr/>
          </p:nvSpPr>
          <p:spPr>
            <a:xfrm>
              <a:off x="4464000" y="277668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72" name="WordArt 28"/>
            <p:cNvSpPr txBox="1"/>
            <p:nvPr/>
          </p:nvSpPr>
          <p:spPr>
            <a:xfrm>
              <a:off x="3850920" y="2402640"/>
              <a:ext cx="10188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73" name="WordArt 29"/>
            <p:cNvSpPr txBox="1"/>
            <p:nvPr/>
          </p:nvSpPr>
          <p:spPr>
            <a:xfrm>
              <a:off x="4033080" y="1442520"/>
              <a:ext cx="15372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74" name="WordArt 30"/>
            <p:cNvSpPr txBox="1"/>
            <p:nvPr/>
          </p:nvSpPr>
          <p:spPr>
            <a:xfrm>
              <a:off x="4437720" y="1257840"/>
              <a:ext cx="17892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75" name="WordArt 31"/>
            <p:cNvSpPr txBox="1"/>
            <p:nvPr/>
          </p:nvSpPr>
          <p:spPr>
            <a:xfrm>
              <a:off x="3831840" y="1679040"/>
              <a:ext cx="152280" cy="12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76" name="WordArt 33"/>
            <p:cNvSpPr txBox="1"/>
            <p:nvPr/>
          </p:nvSpPr>
          <p:spPr>
            <a:xfrm>
              <a:off x="3724200" y="2030040"/>
              <a:ext cx="10152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77" name="Line 34"/>
            <p:cNvSpPr/>
            <p:nvPr/>
          </p:nvSpPr>
          <p:spPr>
            <a:xfrm>
              <a:off x="4489560" y="173124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35"/>
            <p:cNvSpPr/>
            <p:nvPr/>
          </p:nvSpPr>
          <p:spPr>
            <a:xfrm>
              <a:off x="4515840" y="165672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36"/>
            <p:cNvSpPr/>
            <p:nvPr/>
          </p:nvSpPr>
          <p:spPr>
            <a:xfrm>
              <a:off x="4515840" y="170676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68"/>
            <p:cNvGrpSpPr/>
            <p:nvPr/>
          </p:nvGrpSpPr>
          <p:grpSpPr>
            <a:xfrm>
              <a:off x="3847680" y="2036520"/>
              <a:ext cx="698760" cy="687240"/>
              <a:chOff x="3847680" y="2036520"/>
              <a:chExt cx="698760" cy="687240"/>
            </a:xfrm>
          </p:grpSpPr>
          <p:sp>
            <p:nvSpPr>
              <p:cNvPr id="1081" name="AutoShape 69"/>
              <p:cNvSpPr/>
              <p:nvPr/>
            </p:nvSpPr>
            <p:spPr>
              <a:xfrm rot="10800000">
                <a:off x="3847680" y="2036520"/>
                <a:ext cx="643680" cy="6696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1826" y="0"/>
                    </a:lnTo>
                    <a:lnTo>
                      <a:pt x="21600" y="10800"/>
                    </a:lnTo>
                    <a:lnTo>
                      <a:pt x="118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70"/>
              <p:cNvSpPr/>
              <p:nvPr/>
            </p:nvSpPr>
            <p:spPr>
              <a:xfrm rot="5400000">
                <a:off x="4239000" y="2416320"/>
                <a:ext cx="571320" cy="4320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6" y="0"/>
                    </a:lnTo>
                    <a:lnTo>
                      <a:pt x="21600" y="10800"/>
                    </a:lnTo>
                    <a:lnTo>
                      <a:pt x="121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Group 49"/>
            <p:cNvGrpSpPr/>
            <p:nvPr/>
          </p:nvGrpSpPr>
          <p:grpSpPr>
            <a:xfrm>
              <a:off x="4552920" y="1748520"/>
              <a:ext cx="443160" cy="417600"/>
              <a:chOff x="4552920" y="1748520"/>
              <a:chExt cx="443160" cy="417600"/>
            </a:xfrm>
          </p:grpSpPr>
          <p:sp>
            <p:nvSpPr>
              <p:cNvPr id="1084" name="AutoShape 50"/>
              <p:cNvSpPr/>
              <p:nvPr/>
            </p:nvSpPr>
            <p:spPr>
              <a:xfrm rot="19290600">
                <a:off x="4538160" y="1869120"/>
                <a:ext cx="423360" cy="10152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AutoShape 51"/>
              <p:cNvSpPr/>
              <p:nvPr/>
            </p:nvSpPr>
            <p:spPr>
              <a:xfrm rot="19993800">
                <a:off x="4572360" y="1974240"/>
                <a:ext cx="423360" cy="10152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6" name="Oval 86"/>
            <p:cNvSpPr/>
            <p:nvPr/>
          </p:nvSpPr>
          <p:spPr>
            <a:xfrm>
              <a:off x="4469760" y="2017800"/>
              <a:ext cx="13464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组合 47"/>
          <p:cNvGrpSpPr/>
          <p:nvPr/>
        </p:nvGrpSpPr>
        <p:grpSpPr>
          <a:xfrm>
            <a:off x="6473880" y="1058760"/>
            <a:ext cx="2016000" cy="2016360"/>
            <a:chOff x="6473880" y="1058760"/>
            <a:chExt cx="2016000" cy="2016360"/>
          </a:xfrm>
        </p:grpSpPr>
        <p:sp>
          <p:nvSpPr>
            <p:cNvPr id="1088" name="Oval 4"/>
            <p:cNvSpPr/>
            <p:nvPr/>
          </p:nvSpPr>
          <p:spPr>
            <a:xfrm>
              <a:off x="6473880" y="1058760"/>
              <a:ext cx="2016000" cy="201636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5"/>
            <p:cNvSpPr/>
            <p:nvPr/>
          </p:nvSpPr>
          <p:spPr>
            <a:xfrm>
              <a:off x="6549840" y="1126440"/>
              <a:ext cx="1863000" cy="186732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6"/>
            <p:cNvSpPr/>
            <p:nvPr/>
          </p:nvSpPr>
          <p:spPr>
            <a:xfrm>
              <a:off x="6957360" y="1307880"/>
              <a:ext cx="51120" cy="74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7"/>
            <p:cNvSpPr/>
            <p:nvPr/>
          </p:nvSpPr>
          <p:spPr>
            <a:xfrm>
              <a:off x="7456680" y="2898360"/>
              <a:ext cx="0" cy="99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8"/>
            <p:cNvSpPr/>
            <p:nvPr/>
          </p:nvSpPr>
          <p:spPr>
            <a:xfrm>
              <a:off x="7490520" y="1136880"/>
              <a:ext cx="0" cy="997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12"/>
            <p:cNvSpPr/>
            <p:nvPr/>
          </p:nvSpPr>
          <p:spPr>
            <a:xfrm flipH="1">
              <a:off x="7902000" y="1257840"/>
              <a:ext cx="50040" cy="997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13"/>
            <p:cNvSpPr/>
            <p:nvPr/>
          </p:nvSpPr>
          <p:spPr>
            <a:xfrm>
              <a:off x="7910640" y="2769840"/>
              <a:ext cx="58680" cy="882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14"/>
            <p:cNvSpPr/>
            <p:nvPr/>
          </p:nvSpPr>
          <p:spPr>
            <a:xfrm flipH="1">
              <a:off x="6994800" y="2756160"/>
              <a:ext cx="55080" cy="903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15"/>
            <p:cNvSpPr/>
            <p:nvPr/>
          </p:nvSpPr>
          <p:spPr>
            <a:xfrm>
              <a:off x="8310600" y="2080080"/>
              <a:ext cx="1004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16"/>
            <p:cNvSpPr/>
            <p:nvPr/>
          </p:nvSpPr>
          <p:spPr>
            <a:xfrm flipV="1">
              <a:off x="8202240" y="1612800"/>
              <a:ext cx="87120" cy="60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17"/>
            <p:cNvSpPr/>
            <p:nvPr/>
          </p:nvSpPr>
          <p:spPr>
            <a:xfrm>
              <a:off x="8199720" y="2462760"/>
              <a:ext cx="93600" cy="507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18"/>
            <p:cNvSpPr/>
            <p:nvPr/>
          </p:nvSpPr>
          <p:spPr>
            <a:xfrm flipH="1">
              <a:off x="6548040" y="2079000"/>
              <a:ext cx="1022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19"/>
            <p:cNvSpPr/>
            <p:nvPr/>
          </p:nvSpPr>
          <p:spPr>
            <a:xfrm flipH="1">
              <a:off x="6676560" y="2498040"/>
              <a:ext cx="88920" cy="615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20"/>
            <p:cNvSpPr/>
            <p:nvPr/>
          </p:nvSpPr>
          <p:spPr>
            <a:xfrm flipH="1" flipV="1">
              <a:off x="6642000" y="1654560"/>
              <a:ext cx="93960" cy="518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WordArt 21"/>
            <p:cNvSpPr txBox="1"/>
            <p:nvPr/>
          </p:nvSpPr>
          <p:spPr>
            <a:xfrm>
              <a:off x="7824960" y="1383120"/>
              <a:ext cx="7740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03" name="WordArt 22"/>
            <p:cNvSpPr txBox="1"/>
            <p:nvPr/>
          </p:nvSpPr>
          <p:spPr>
            <a:xfrm>
              <a:off x="8080920" y="1656720"/>
              <a:ext cx="10044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04" name="WordArt 23"/>
            <p:cNvSpPr txBox="1"/>
            <p:nvPr/>
          </p:nvSpPr>
          <p:spPr>
            <a:xfrm>
              <a:off x="8181720" y="203004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05" name="WordArt 24"/>
            <p:cNvSpPr txBox="1"/>
            <p:nvPr/>
          </p:nvSpPr>
          <p:spPr>
            <a:xfrm>
              <a:off x="8080920" y="2402640"/>
              <a:ext cx="1004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06" name="WordArt 25"/>
            <p:cNvSpPr txBox="1"/>
            <p:nvPr/>
          </p:nvSpPr>
          <p:spPr>
            <a:xfrm>
              <a:off x="7800120" y="265212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07" name="WordArt 26"/>
            <p:cNvSpPr txBox="1"/>
            <p:nvPr/>
          </p:nvSpPr>
          <p:spPr>
            <a:xfrm>
              <a:off x="7060320" y="265212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08" name="WordArt 27"/>
            <p:cNvSpPr txBox="1"/>
            <p:nvPr/>
          </p:nvSpPr>
          <p:spPr>
            <a:xfrm>
              <a:off x="7417440" y="277668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09" name="WordArt 28"/>
            <p:cNvSpPr txBox="1"/>
            <p:nvPr/>
          </p:nvSpPr>
          <p:spPr>
            <a:xfrm>
              <a:off x="6804000" y="2402640"/>
              <a:ext cx="1022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10" name="WordArt 29"/>
            <p:cNvSpPr txBox="1"/>
            <p:nvPr/>
          </p:nvSpPr>
          <p:spPr>
            <a:xfrm>
              <a:off x="6986160" y="1442520"/>
              <a:ext cx="15372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11" name="WordArt 30"/>
            <p:cNvSpPr txBox="1"/>
            <p:nvPr/>
          </p:nvSpPr>
          <p:spPr>
            <a:xfrm>
              <a:off x="7391160" y="1257840"/>
              <a:ext cx="17892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12" name="WordArt 31"/>
            <p:cNvSpPr txBox="1"/>
            <p:nvPr/>
          </p:nvSpPr>
          <p:spPr>
            <a:xfrm>
              <a:off x="6784920" y="1679040"/>
              <a:ext cx="152280" cy="12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13" name="WordArt 33"/>
            <p:cNvSpPr txBox="1"/>
            <p:nvPr/>
          </p:nvSpPr>
          <p:spPr>
            <a:xfrm>
              <a:off x="6677280" y="2030040"/>
              <a:ext cx="10152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14" name="Line 34"/>
            <p:cNvSpPr/>
            <p:nvPr/>
          </p:nvSpPr>
          <p:spPr>
            <a:xfrm>
              <a:off x="7443000" y="173124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35"/>
            <p:cNvSpPr/>
            <p:nvPr/>
          </p:nvSpPr>
          <p:spPr>
            <a:xfrm>
              <a:off x="7469280" y="165672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36"/>
            <p:cNvSpPr/>
            <p:nvPr/>
          </p:nvSpPr>
          <p:spPr>
            <a:xfrm>
              <a:off x="7469280" y="170676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Group 68"/>
            <p:cNvGrpSpPr/>
            <p:nvPr/>
          </p:nvGrpSpPr>
          <p:grpSpPr>
            <a:xfrm>
              <a:off x="7457040" y="1700280"/>
              <a:ext cx="654120" cy="1023480"/>
              <a:chOff x="7457040" y="1700280"/>
              <a:chExt cx="654120" cy="1023480"/>
            </a:xfrm>
          </p:grpSpPr>
          <p:sp>
            <p:nvSpPr>
              <p:cNvPr id="1118" name="AutoShape 69"/>
              <p:cNvSpPr/>
              <p:nvPr/>
            </p:nvSpPr>
            <p:spPr>
              <a:xfrm rot="19680000">
                <a:off x="7498800" y="1865520"/>
                <a:ext cx="643320" cy="66960"/>
              </a:xfrm>
              <a:custGeom>
                <a:avLst/>
                <a:gdLst>
                  <a:gd name="textAreaLeft" fmla="*/ 0 w 643320"/>
                  <a:gd name="textAreaRight" fmla="*/ 643680 w 6433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1826" y="0"/>
                    </a:lnTo>
                    <a:lnTo>
                      <a:pt x="21600" y="10800"/>
                    </a:lnTo>
                    <a:lnTo>
                      <a:pt x="118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AutoShape 70"/>
              <p:cNvSpPr/>
              <p:nvPr/>
            </p:nvSpPr>
            <p:spPr>
              <a:xfrm rot="5400000">
                <a:off x="7192800" y="2416320"/>
                <a:ext cx="571320" cy="4320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6" y="0"/>
                    </a:lnTo>
                    <a:lnTo>
                      <a:pt x="21600" y="10800"/>
                    </a:lnTo>
                    <a:lnTo>
                      <a:pt x="121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0" name="Group 49"/>
            <p:cNvGrpSpPr/>
            <p:nvPr/>
          </p:nvGrpSpPr>
          <p:grpSpPr>
            <a:xfrm>
              <a:off x="7010640" y="1883880"/>
              <a:ext cx="939600" cy="281520"/>
              <a:chOff x="7010640" y="1883880"/>
              <a:chExt cx="939600" cy="281520"/>
            </a:xfrm>
          </p:grpSpPr>
          <p:sp>
            <p:nvSpPr>
              <p:cNvPr id="1121" name="AutoShape 50"/>
              <p:cNvSpPr/>
              <p:nvPr/>
            </p:nvSpPr>
            <p:spPr>
              <a:xfrm rot="11130600">
                <a:off x="7014600" y="2006640"/>
                <a:ext cx="423000" cy="101520"/>
              </a:xfrm>
              <a:custGeom>
                <a:avLst/>
                <a:gdLst>
                  <a:gd name="textAreaLeft" fmla="*/ 0 w 423000"/>
                  <a:gd name="textAreaRight" fmla="*/ 423360 w 4230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" y="0"/>
                    </a:lnTo>
                    <a:lnTo>
                      <a:pt x="21600" y="10800"/>
                    </a:lnTo>
                    <a:lnTo>
                      <a:pt x="1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AutoShape 51"/>
              <p:cNvSpPr/>
              <p:nvPr/>
            </p:nvSpPr>
            <p:spPr>
              <a:xfrm rot="19993800">
                <a:off x="7526520" y="1973520"/>
                <a:ext cx="423360" cy="10152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3" name="Oval 86"/>
            <p:cNvSpPr/>
            <p:nvPr/>
          </p:nvSpPr>
          <p:spPr>
            <a:xfrm>
              <a:off x="7423200" y="2017800"/>
              <a:ext cx="13464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文本框 233"/>
          <p:cNvSpPr/>
          <p:nvPr/>
        </p:nvSpPr>
        <p:spPr>
          <a:xfrm>
            <a:off x="272880" y="60804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填一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234"/>
          <p:cNvSpPr/>
          <p:nvPr/>
        </p:nvSpPr>
        <p:spPr>
          <a:xfrm>
            <a:off x="352440" y="3141720"/>
            <a:ext cx="83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是（          ）        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是（           ）     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是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235"/>
          <p:cNvSpPr/>
          <p:nvPr/>
        </p:nvSpPr>
        <p:spPr>
          <a:xfrm>
            <a:off x="351000" y="5746680"/>
            <a:ext cx="83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是（          ）     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是（           ）     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是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组合 238"/>
          <p:cNvGrpSpPr/>
          <p:nvPr/>
        </p:nvGrpSpPr>
        <p:grpSpPr>
          <a:xfrm>
            <a:off x="515880" y="3656160"/>
            <a:ext cx="2016360" cy="2016000"/>
            <a:chOff x="515880" y="3656160"/>
            <a:chExt cx="2016360" cy="2016000"/>
          </a:xfrm>
        </p:grpSpPr>
        <p:sp>
          <p:nvSpPr>
            <p:cNvPr id="1128" name="Oval 4"/>
            <p:cNvSpPr/>
            <p:nvPr/>
          </p:nvSpPr>
          <p:spPr>
            <a:xfrm>
              <a:off x="515880" y="3656160"/>
              <a:ext cx="2016360" cy="201600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5"/>
            <p:cNvSpPr/>
            <p:nvPr/>
          </p:nvSpPr>
          <p:spPr>
            <a:xfrm>
              <a:off x="591840" y="3723840"/>
              <a:ext cx="1863360" cy="186696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6"/>
            <p:cNvSpPr/>
            <p:nvPr/>
          </p:nvSpPr>
          <p:spPr>
            <a:xfrm>
              <a:off x="999360" y="3905280"/>
              <a:ext cx="51120" cy="74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7"/>
            <p:cNvSpPr/>
            <p:nvPr/>
          </p:nvSpPr>
          <p:spPr>
            <a:xfrm>
              <a:off x="1498680" y="5495400"/>
              <a:ext cx="0" cy="99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8"/>
            <p:cNvSpPr/>
            <p:nvPr/>
          </p:nvSpPr>
          <p:spPr>
            <a:xfrm>
              <a:off x="1532880" y="3734280"/>
              <a:ext cx="0" cy="997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12"/>
            <p:cNvSpPr/>
            <p:nvPr/>
          </p:nvSpPr>
          <p:spPr>
            <a:xfrm flipH="1">
              <a:off x="1944720" y="3855240"/>
              <a:ext cx="50400" cy="997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13"/>
            <p:cNvSpPr/>
            <p:nvPr/>
          </p:nvSpPr>
          <p:spPr>
            <a:xfrm>
              <a:off x="1953000" y="5366880"/>
              <a:ext cx="59040" cy="882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14"/>
            <p:cNvSpPr/>
            <p:nvPr/>
          </p:nvSpPr>
          <p:spPr>
            <a:xfrm flipH="1">
              <a:off x="1036800" y="5353560"/>
              <a:ext cx="55080" cy="903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15"/>
            <p:cNvSpPr/>
            <p:nvPr/>
          </p:nvSpPr>
          <p:spPr>
            <a:xfrm>
              <a:off x="2352960" y="4677120"/>
              <a:ext cx="1004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16"/>
            <p:cNvSpPr/>
            <p:nvPr/>
          </p:nvSpPr>
          <p:spPr>
            <a:xfrm flipV="1">
              <a:off x="2244600" y="4210200"/>
              <a:ext cx="87120" cy="60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17"/>
            <p:cNvSpPr/>
            <p:nvPr/>
          </p:nvSpPr>
          <p:spPr>
            <a:xfrm>
              <a:off x="2242080" y="5059800"/>
              <a:ext cx="93600" cy="507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18"/>
            <p:cNvSpPr/>
            <p:nvPr/>
          </p:nvSpPr>
          <p:spPr>
            <a:xfrm flipH="1">
              <a:off x="590040" y="4676040"/>
              <a:ext cx="1022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19"/>
            <p:cNvSpPr/>
            <p:nvPr/>
          </p:nvSpPr>
          <p:spPr>
            <a:xfrm flipH="1">
              <a:off x="718560" y="5095440"/>
              <a:ext cx="88920" cy="615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Line 20"/>
            <p:cNvSpPr/>
            <p:nvPr/>
          </p:nvSpPr>
          <p:spPr>
            <a:xfrm flipH="1" flipV="1">
              <a:off x="684000" y="4251600"/>
              <a:ext cx="93960" cy="518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WordArt 21"/>
            <p:cNvSpPr txBox="1"/>
            <p:nvPr/>
          </p:nvSpPr>
          <p:spPr>
            <a:xfrm>
              <a:off x="1866960" y="3980520"/>
              <a:ext cx="7740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43" name="WordArt 22"/>
            <p:cNvSpPr txBox="1"/>
            <p:nvPr/>
          </p:nvSpPr>
          <p:spPr>
            <a:xfrm>
              <a:off x="2123280" y="4253760"/>
              <a:ext cx="10080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44" name="WordArt 23"/>
            <p:cNvSpPr txBox="1"/>
            <p:nvPr/>
          </p:nvSpPr>
          <p:spPr>
            <a:xfrm>
              <a:off x="2224080" y="462708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45" name="WordArt 24"/>
            <p:cNvSpPr txBox="1"/>
            <p:nvPr/>
          </p:nvSpPr>
          <p:spPr>
            <a:xfrm>
              <a:off x="2123280" y="4999680"/>
              <a:ext cx="10080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46" name="WordArt 25"/>
            <p:cNvSpPr txBox="1"/>
            <p:nvPr/>
          </p:nvSpPr>
          <p:spPr>
            <a:xfrm>
              <a:off x="1842480" y="524916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47" name="WordArt 26"/>
            <p:cNvSpPr txBox="1"/>
            <p:nvPr/>
          </p:nvSpPr>
          <p:spPr>
            <a:xfrm>
              <a:off x="1102320" y="524916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48" name="WordArt 27"/>
            <p:cNvSpPr txBox="1"/>
            <p:nvPr/>
          </p:nvSpPr>
          <p:spPr>
            <a:xfrm>
              <a:off x="1459440" y="537372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49" name="WordArt 28"/>
            <p:cNvSpPr txBox="1"/>
            <p:nvPr/>
          </p:nvSpPr>
          <p:spPr>
            <a:xfrm>
              <a:off x="846000" y="4999680"/>
              <a:ext cx="1022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50" name="WordArt 29"/>
            <p:cNvSpPr txBox="1"/>
            <p:nvPr/>
          </p:nvSpPr>
          <p:spPr>
            <a:xfrm>
              <a:off x="1028160" y="4039560"/>
              <a:ext cx="15408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51" name="WordArt 30"/>
            <p:cNvSpPr txBox="1"/>
            <p:nvPr/>
          </p:nvSpPr>
          <p:spPr>
            <a:xfrm>
              <a:off x="1433520" y="3855240"/>
              <a:ext cx="1792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52" name="WordArt 31"/>
            <p:cNvSpPr txBox="1"/>
            <p:nvPr/>
          </p:nvSpPr>
          <p:spPr>
            <a:xfrm>
              <a:off x="826920" y="4276080"/>
              <a:ext cx="152280" cy="12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53" name="WordArt 33"/>
            <p:cNvSpPr txBox="1"/>
            <p:nvPr/>
          </p:nvSpPr>
          <p:spPr>
            <a:xfrm>
              <a:off x="719280" y="4627080"/>
              <a:ext cx="10152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54" name="Line 34"/>
            <p:cNvSpPr/>
            <p:nvPr/>
          </p:nvSpPr>
          <p:spPr>
            <a:xfrm>
              <a:off x="1485360" y="432864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35"/>
            <p:cNvSpPr/>
            <p:nvPr/>
          </p:nvSpPr>
          <p:spPr>
            <a:xfrm>
              <a:off x="1511280" y="425376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36"/>
            <p:cNvSpPr/>
            <p:nvPr/>
          </p:nvSpPr>
          <p:spPr>
            <a:xfrm>
              <a:off x="1511280" y="430380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Group 68"/>
            <p:cNvGrpSpPr/>
            <p:nvPr/>
          </p:nvGrpSpPr>
          <p:grpSpPr>
            <a:xfrm>
              <a:off x="1499400" y="4680720"/>
              <a:ext cx="399960" cy="640440"/>
              <a:chOff x="1499400" y="4680720"/>
              <a:chExt cx="399960" cy="640440"/>
            </a:xfrm>
          </p:grpSpPr>
          <p:sp>
            <p:nvSpPr>
              <p:cNvPr id="1158" name="AutoShape 69"/>
              <p:cNvSpPr/>
              <p:nvPr/>
            </p:nvSpPr>
            <p:spPr>
              <a:xfrm rot="3540000">
                <a:off x="1382760" y="4940280"/>
                <a:ext cx="643680" cy="6696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562" y="0"/>
                    </a:lnTo>
                    <a:lnTo>
                      <a:pt x="21600" y="10800"/>
                    </a:lnTo>
                    <a:lnTo>
                      <a:pt x="856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AutoShape 70"/>
              <p:cNvSpPr/>
              <p:nvPr/>
            </p:nvSpPr>
            <p:spPr>
              <a:xfrm rot="5400000">
                <a:off x="1235520" y="5014080"/>
                <a:ext cx="570600" cy="43200"/>
              </a:xfrm>
              <a:custGeom>
                <a:avLst/>
                <a:gdLst>
                  <a:gd name="textAreaLeft" fmla="*/ 0 w 570600"/>
                  <a:gd name="textAreaRight" fmla="*/ 570960 w 57060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6" y="0"/>
                    </a:lnTo>
                    <a:lnTo>
                      <a:pt x="21600" y="10800"/>
                    </a:lnTo>
                    <a:lnTo>
                      <a:pt x="121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Group 49"/>
            <p:cNvGrpSpPr/>
            <p:nvPr/>
          </p:nvGrpSpPr>
          <p:grpSpPr>
            <a:xfrm>
              <a:off x="1559520" y="4482720"/>
              <a:ext cx="434520" cy="281520"/>
              <a:chOff x="1559520" y="4482720"/>
              <a:chExt cx="434520" cy="281520"/>
            </a:xfrm>
          </p:grpSpPr>
          <p:sp>
            <p:nvSpPr>
              <p:cNvPr id="1161" name="AutoShape 50"/>
              <p:cNvSpPr/>
              <p:nvPr/>
            </p:nvSpPr>
            <p:spPr>
              <a:xfrm rot="20610600">
                <a:off x="1564920" y="4547520"/>
                <a:ext cx="423000" cy="101520"/>
              </a:xfrm>
              <a:custGeom>
                <a:avLst/>
                <a:gdLst>
                  <a:gd name="textAreaLeft" fmla="*/ 0 w 423000"/>
                  <a:gd name="textAreaRight" fmla="*/ 423360 w 4230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AutoShape 51"/>
              <p:cNvSpPr/>
              <p:nvPr/>
            </p:nvSpPr>
            <p:spPr>
              <a:xfrm rot="19993800">
                <a:off x="1568880" y="4572360"/>
                <a:ext cx="423000" cy="101880"/>
              </a:xfrm>
              <a:custGeom>
                <a:avLst/>
                <a:gdLst>
                  <a:gd name="textAreaLeft" fmla="*/ 0 w 423000"/>
                  <a:gd name="textAreaRight" fmla="*/ 423360 w 42300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Oval 86"/>
            <p:cNvSpPr/>
            <p:nvPr/>
          </p:nvSpPr>
          <p:spPr>
            <a:xfrm>
              <a:off x="1465560" y="4615200"/>
              <a:ext cx="13464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组合 275"/>
          <p:cNvGrpSpPr/>
          <p:nvPr/>
        </p:nvGrpSpPr>
        <p:grpSpPr>
          <a:xfrm>
            <a:off x="3478320" y="3664080"/>
            <a:ext cx="2014560" cy="2016000"/>
            <a:chOff x="3478320" y="3664080"/>
            <a:chExt cx="2014560" cy="2016000"/>
          </a:xfrm>
        </p:grpSpPr>
        <p:sp>
          <p:nvSpPr>
            <p:cNvPr id="1165" name="Oval 4"/>
            <p:cNvSpPr/>
            <p:nvPr/>
          </p:nvSpPr>
          <p:spPr>
            <a:xfrm>
              <a:off x="3478320" y="3664080"/>
              <a:ext cx="2014560" cy="201600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val 5"/>
            <p:cNvSpPr/>
            <p:nvPr/>
          </p:nvSpPr>
          <p:spPr>
            <a:xfrm>
              <a:off x="3554280" y="3731760"/>
              <a:ext cx="1861560" cy="186696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6"/>
            <p:cNvSpPr/>
            <p:nvPr/>
          </p:nvSpPr>
          <p:spPr>
            <a:xfrm>
              <a:off x="3961440" y="3913200"/>
              <a:ext cx="51120" cy="74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7"/>
            <p:cNvSpPr/>
            <p:nvPr/>
          </p:nvSpPr>
          <p:spPr>
            <a:xfrm>
              <a:off x="4460400" y="5503320"/>
              <a:ext cx="0" cy="99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8"/>
            <p:cNvSpPr/>
            <p:nvPr/>
          </p:nvSpPr>
          <p:spPr>
            <a:xfrm>
              <a:off x="4494240" y="3742200"/>
              <a:ext cx="0" cy="997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12"/>
            <p:cNvSpPr/>
            <p:nvPr/>
          </p:nvSpPr>
          <p:spPr>
            <a:xfrm flipH="1">
              <a:off x="4905360" y="3863160"/>
              <a:ext cx="50040" cy="997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13"/>
            <p:cNvSpPr/>
            <p:nvPr/>
          </p:nvSpPr>
          <p:spPr>
            <a:xfrm>
              <a:off x="4914000" y="5374800"/>
              <a:ext cx="58680" cy="882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14"/>
            <p:cNvSpPr/>
            <p:nvPr/>
          </p:nvSpPr>
          <p:spPr>
            <a:xfrm flipH="1">
              <a:off x="3998880" y="5361480"/>
              <a:ext cx="55080" cy="903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15"/>
            <p:cNvSpPr/>
            <p:nvPr/>
          </p:nvSpPr>
          <p:spPr>
            <a:xfrm>
              <a:off x="5313960" y="4685040"/>
              <a:ext cx="1004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16"/>
            <p:cNvSpPr/>
            <p:nvPr/>
          </p:nvSpPr>
          <p:spPr>
            <a:xfrm flipV="1">
              <a:off x="5205240" y="4218120"/>
              <a:ext cx="87120" cy="60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17"/>
            <p:cNvSpPr/>
            <p:nvPr/>
          </p:nvSpPr>
          <p:spPr>
            <a:xfrm>
              <a:off x="5202360" y="5067720"/>
              <a:ext cx="93240" cy="507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Line 18"/>
            <p:cNvSpPr/>
            <p:nvPr/>
          </p:nvSpPr>
          <p:spPr>
            <a:xfrm flipH="1">
              <a:off x="3552120" y="4683960"/>
              <a:ext cx="1018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19"/>
            <p:cNvSpPr/>
            <p:nvPr/>
          </p:nvSpPr>
          <p:spPr>
            <a:xfrm flipH="1">
              <a:off x="3680640" y="5103360"/>
              <a:ext cx="88920" cy="615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20"/>
            <p:cNvSpPr/>
            <p:nvPr/>
          </p:nvSpPr>
          <p:spPr>
            <a:xfrm flipH="1" flipV="1">
              <a:off x="3646440" y="4259520"/>
              <a:ext cx="93960" cy="518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WordArt 21"/>
            <p:cNvSpPr txBox="1"/>
            <p:nvPr/>
          </p:nvSpPr>
          <p:spPr>
            <a:xfrm>
              <a:off x="4828320" y="3988440"/>
              <a:ext cx="7740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0" name="WordArt 22"/>
            <p:cNvSpPr txBox="1"/>
            <p:nvPr/>
          </p:nvSpPr>
          <p:spPr>
            <a:xfrm>
              <a:off x="5084280" y="4261680"/>
              <a:ext cx="10044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1" name="WordArt 23"/>
            <p:cNvSpPr txBox="1"/>
            <p:nvPr/>
          </p:nvSpPr>
          <p:spPr>
            <a:xfrm>
              <a:off x="5185080" y="463500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2" name="WordArt 24"/>
            <p:cNvSpPr txBox="1"/>
            <p:nvPr/>
          </p:nvSpPr>
          <p:spPr>
            <a:xfrm>
              <a:off x="5084280" y="5007600"/>
              <a:ext cx="1004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3" name="WordArt 25"/>
            <p:cNvSpPr txBox="1"/>
            <p:nvPr/>
          </p:nvSpPr>
          <p:spPr>
            <a:xfrm>
              <a:off x="4803840" y="525708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4" name="WordArt 26"/>
            <p:cNvSpPr txBox="1"/>
            <p:nvPr/>
          </p:nvSpPr>
          <p:spPr>
            <a:xfrm>
              <a:off x="4064400" y="525708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5" name="WordArt 27"/>
            <p:cNvSpPr txBox="1"/>
            <p:nvPr/>
          </p:nvSpPr>
          <p:spPr>
            <a:xfrm>
              <a:off x="4421160" y="538164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6" name="WordArt 28"/>
            <p:cNvSpPr txBox="1"/>
            <p:nvPr/>
          </p:nvSpPr>
          <p:spPr>
            <a:xfrm>
              <a:off x="3808080" y="5007600"/>
              <a:ext cx="10188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7" name="WordArt 29"/>
            <p:cNvSpPr txBox="1"/>
            <p:nvPr/>
          </p:nvSpPr>
          <p:spPr>
            <a:xfrm>
              <a:off x="3990240" y="4047480"/>
              <a:ext cx="15372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8" name="WordArt 30"/>
            <p:cNvSpPr txBox="1"/>
            <p:nvPr/>
          </p:nvSpPr>
          <p:spPr>
            <a:xfrm>
              <a:off x="4394880" y="3863160"/>
              <a:ext cx="17892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9" name="WordArt 31"/>
            <p:cNvSpPr txBox="1"/>
            <p:nvPr/>
          </p:nvSpPr>
          <p:spPr>
            <a:xfrm>
              <a:off x="3789000" y="4284000"/>
              <a:ext cx="152280" cy="12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90" name="WordArt 33"/>
            <p:cNvSpPr txBox="1"/>
            <p:nvPr/>
          </p:nvSpPr>
          <p:spPr>
            <a:xfrm>
              <a:off x="3681360" y="4635000"/>
              <a:ext cx="10152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91" name="Line 34"/>
            <p:cNvSpPr/>
            <p:nvPr/>
          </p:nvSpPr>
          <p:spPr>
            <a:xfrm>
              <a:off x="4446720" y="433656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35"/>
            <p:cNvSpPr/>
            <p:nvPr/>
          </p:nvSpPr>
          <p:spPr>
            <a:xfrm>
              <a:off x="4473000" y="426168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36"/>
            <p:cNvSpPr/>
            <p:nvPr/>
          </p:nvSpPr>
          <p:spPr>
            <a:xfrm>
              <a:off x="4473000" y="431172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Group 68"/>
            <p:cNvGrpSpPr/>
            <p:nvPr/>
          </p:nvGrpSpPr>
          <p:grpSpPr>
            <a:xfrm>
              <a:off x="3804840" y="4641480"/>
              <a:ext cx="698760" cy="687240"/>
              <a:chOff x="3804840" y="4641480"/>
              <a:chExt cx="698760" cy="687240"/>
            </a:xfrm>
          </p:grpSpPr>
          <p:sp>
            <p:nvSpPr>
              <p:cNvPr id="1195" name="AutoShape 69"/>
              <p:cNvSpPr/>
              <p:nvPr/>
            </p:nvSpPr>
            <p:spPr>
              <a:xfrm rot="10800000">
                <a:off x="3804840" y="4641480"/>
                <a:ext cx="643680" cy="6696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1826" y="0"/>
                    </a:lnTo>
                    <a:lnTo>
                      <a:pt x="21600" y="10800"/>
                    </a:lnTo>
                    <a:lnTo>
                      <a:pt x="118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AutoShape 70"/>
              <p:cNvSpPr/>
              <p:nvPr/>
            </p:nvSpPr>
            <p:spPr>
              <a:xfrm rot="5400000">
                <a:off x="4196160" y="5021280"/>
                <a:ext cx="571320" cy="4320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6" y="0"/>
                    </a:lnTo>
                    <a:lnTo>
                      <a:pt x="21600" y="10800"/>
                    </a:lnTo>
                    <a:lnTo>
                      <a:pt x="121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Group 49"/>
            <p:cNvGrpSpPr/>
            <p:nvPr/>
          </p:nvGrpSpPr>
          <p:grpSpPr>
            <a:xfrm>
              <a:off x="4510080" y="4353840"/>
              <a:ext cx="443160" cy="417600"/>
              <a:chOff x="4510080" y="4353840"/>
              <a:chExt cx="443160" cy="417600"/>
            </a:xfrm>
          </p:grpSpPr>
          <p:sp>
            <p:nvSpPr>
              <p:cNvPr id="1198" name="AutoShape 50"/>
              <p:cNvSpPr/>
              <p:nvPr/>
            </p:nvSpPr>
            <p:spPr>
              <a:xfrm rot="19290600">
                <a:off x="4495320" y="4474440"/>
                <a:ext cx="423360" cy="10152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AutoShape 51"/>
              <p:cNvSpPr/>
              <p:nvPr/>
            </p:nvSpPr>
            <p:spPr>
              <a:xfrm rot="19993800">
                <a:off x="4529520" y="4579560"/>
                <a:ext cx="423360" cy="10152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0" name="Oval 86"/>
            <p:cNvSpPr/>
            <p:nvPr/>
          </p:nvSpPr>
          <p:spPr>
            <a:xfrm>
              <a:off x="4426920" y="4623120"/>
              <a:ext cx="13464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组合 312"/>
          <p:cNvGrpSpPr/>
          <p:nvPr/>
        </p:nvGrpSpPr>
        <p:grpSpPr>
          <a:xfrm>
            <a:off x="6431040" y="3664080"/>
            <a:ext cx="2016000" cy="2016000"/>
            <a:chOff x="6431040" y="3664080"/>
            <a:chExt cx="2016000" cy="2016000"/>
          </a:xfrm>
        </p:grpSpPr>
        <p:sp>
          <p:nvSpPr>
            <p:cNvPr id="1202" name="Oval 4"/>
            <p:cNvSpPr/>
            <p:nvPr/>
          </p:nvSpPr>
          <p:spPr>
            <a:xfrm>
              <a:off x="6431040" y="3664080"/>
              <a:ext cx="2016000" cy="201600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Oval 5"/>
            <p:cNvSpPr/>
            <p:nvPr/>
          </p:nvSpPr>
          <p:spPr>
            <a:xfrm>
              <a:off x="6507000" y="3731760"/>
              <a:ext cx="1863000" cy="186696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6"/>
            <p:cNvSpPr/>
            <p:nvPr/>
          </p:nvSpPr>
          <p:spPr>
            <a:xfrm>
              <a:off x="6914520" y="3913200"/>
              <a:ext cx="51120" cy="74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7"/>
            <p:cNvSpPr/>
            <p:nvPr/>
          </p:nvSpPr>
          <p:spPr>
            <a:xfrm>
              <a:off x="7413840" y="5503320"/>
              <a:ext cx="0" cy="99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8"/>
            <p:cNvSpPr/>
            <p:nvPr/>
          </p:nvSpPr>
          <p:spPr>
            <a:xfrm>
              <a:off x="7447680" y="3742200"/>
              <a:ext cx="0" cy="997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12"/>
            <p:cNvSpPr/>
            <p:nvPr/>
          </p:nvSpPr>
          <p:spPr>
            <a:xfrm flipH="1">
              <a:off x="7859160" y="3863160"/>
              <a:ext cx="50040" cy="997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13"/>
            <p:cNvSpPr/>
            <p:nvPr/>
          </p:nvSpPr>
          <p:spPr>
            <a:xfrm>
              <a:off x="7867800" y="5374800"/>
              <a:ext cx="58680" cy="882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14"/>
            <p:cNvSpPr/>
            <p:nvPr/>
          </p:nvSpPr>
          <p:spPr>
            <a:xfrm flipH="1">
              <a:off x="6951960" y="5361480"/>
              <a:ext cx="55080" cy="903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15"/>
            <p:cNvSpPr/>
            <p:nvPr/>
          </p:nvSpPr>
          <p:spPr>
            <a:xfrm>
              <a:off x="8267760" y="4685040"/>
              <a:ext cx="1004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16"/>
            <p:cNvSpPr/>
            <p:nvPr/>
          </p:nvSpPr>
          <p:spPr>
            <a:xfrm flipV="1">
              <a:off x="8159400" y="4218120"/>
              <a:ext cx="87120" cy="60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7"/>
            <p:cNvSpPr/>
            <p:nvPr/>
          </p:nvSpPr>
          <p:spPr>
            <a:xfrm>
              <a:off x="8156880" y="5067720"/>
              <a:ext cx="93600" cy="507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18"/>
            <p:cNvSpPr/>
            <p:nvPr/>
          </p:nvSpPr>
          <p:spPr>
            <a:xfrm flipH="1">
              <a:off x="6505200" y="4683960"/>
              <a:ext cx="1022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19"/>
            <p:cNvSpPr/>
            <p:nvPr/>
          </p:nvSpPr>
          <p:spPr>
            <a:xfrm flipH="1">
              <a:off x="6633720" y="5103360"/>
              <a:ext cx="88920" cy="615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20"/>
            <p:cNvSpPr/>
            <p:nvPr/>
          </p:nvSpPr>
          <p:spPr>
            <a:xfrm flipH="1" flipV="1">
              <a:off x="6599160" y="4259520"/>
              <a:ext cx="93960" cy="518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WordArt 21"/>
            <p:cNvSpPr txBox="1"/>
            <p:nvPr/>
          </p:nvSpPr>
          <p:spPr>
            <a:xfrm>
              <a:off x="7782120" y="3988440"/>
              <a:ext cx="7740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17" name="WordArt 22"/>
            <p:cNvSpPr txBox="1"/>
            <p:nvPr/>
          </p:nvSpPr>
          <p:spPr>
            <a:xfrm>
              <a:off x="8038080" y="4261680"/>
              <a:ext cx="10044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18" name="WordArt 23"/>
            <p:cNvSpPr txBox="1"/>
            <p:nvPr/>
          </p:nvSpPr>
          <p:spPr>
            <a:xfrm>
              <a:off x="8138880" y="463500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19" name="WordArt 24"/>
            <p:cNvSpPr txBox="1"/>
            <p:nvPr/>
          </p:nvSpPr>
          <p:spPr>
            <a:xfrm>
              <a:off x="8038080" y="5007600"/>
              <a:ext cx="1004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0" name="WordArt 25"/>
            <p:cNvSpPr txBox="1"/>
            <p:nvPr/>
          </p:nvSpPr>
          <p:spPr>
            <a:xfrm>
              <a:off x="7757280" y="525708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1" name="WordArt 26"/>
            <p:cNvSpPr txBox="1"/>
            <p:nvPr/>
          </p:nvSpPr>
          <p:spPr>
            <a:xfrm>
              <a:off x="7017480" y="525708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2" name="WordArt 27"/>
            <p:cNvSpPr txBox="1"/>
            <p:nvPr/>
          </p:nvSpPr>
          <p:spPr>
            <a:xfrm>
              <a:off x="7374600" y="538164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3" name="WordArt 28"/>
            <p:cNvSpPr txBox="1"/>
            <p:nvPr/>
          </p:nvSpPr>
          <p:spPr>
            <a:xfrm>
              <a:off x="6761160" y="5007600"/>
              <a:ext cx="1022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4" name="WordArt 29"/>
            <p:cNvSpPr txBox="1"/>
            <p:nvPr/>
          </p:nvSpPr>
          <p:spPr>
            <a:xfrm>
              <a:off x="6943320" y="4047480"/>
              <a:ext cx="15372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5" name="WordArt 30"/>
            <p:cNvSpPr txBox="1"/>
            <p:nvPr/>
          </p:nvSpPr>
          <p:spPr>
            <a:xfrm>
              <a:off x="7348320" y="3863160"/>
              <a:ext cx="17892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6" name="WordArt 31"/>
            <p:cNvSpPr txBox="1"/>
            <p:nvPr/>
          </p:nvSpPr>
          <p:spPr>
            <a:xfrm>
              <a:off x="6742080" y="4284000"/>
              <a:ext cx="152280" cy="12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7" name="WordArt 33"/>
            <p:cNvSpPr txBox="1"/>
            <p:nvPr/>
          </p:nvSpPr>
          <p:spPr>
            <a:xfrm>
              <a:off x="6634440" y="4635000"/>
              <a:ext cx="10152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8" name="Line 34"/>
            <p:cNvSpPr/>
            <p:nvPr/>
          </p:nvSpPr>
          <p:spPr>
            <a:xfrm>
              <a:off x="7400160" y="433656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35"/>
            <p:cNvSpPr/>
            <p:nvPr/>
          </p:nvSpPr>
          <p:spPr>
            <a:xfrm>
              <a:off x="7426440" y="426168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36"/>
            <p:cNvSpPr/>
            <p:nvPr/>
          </p:nvSpPr>
          <p:spPr>
            <a:xfrm>
              <a:off x="7426440" y="431172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1" name="Group 68"/>
            <p:cNvGrpSpPr/>
            <p:nvPr/>
          </p:nvGrpSpPr>
          <p:grpSpPr>
            <a:xfrm>
              <a:off x="7414200" y="4305600"/>
              <a:ext cx="654120" cy="1023480"/>
              <a:chOff x="7414200" y="4305600"/>
              <a:chExt cx="654120" cy="1023480"/>
            </a:xfrm>
          </p:grpSpPr>
          <p:sp>
            <p:nvSpPr>
              <p:cNvPr id="1232" name="AutoShape 69"/>
              <p:cNvSpPr/>
              <p:nvPr/>
            </p:nvSpPr>
            <p:spPr>
              <a:xfrm rot="19680000">
                <a:off x="7455960" y="4470840"/>
                <a:ext cx="643320" cy="66960"/>
              </a:xfrm>
              <a:custGeom>
                <a:avLst/>
                <a:gdLst>
                  <a:gd name="textAreaLeft" fmla="*/ 0 w 643320"/>
                  <a:gd name="textAreaRight" fmla="*/ 643680 w 6433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1826" y="0"/>
                    </a:lnTo>
                    <a:lnTo>
                      <a:pt x="21600" y="10800"/>
                    </a:lnTo>
                    <a:lnTo>
                      <a:pt x="118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AutoShape 70"/>
              <p:cNvSpPr/>
              <p:nvPr/>
            </p:nvSpPr>
            <p:spPr>
              <a:xfrm rot="5400000">
                <a:off x="7149960" y="5021640"/>
                <a:ext cx="571320" cy="4320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6" y="0"/>
                    </a:lnTo>
                    <a:lnTo>
                      <a:pt x="21600" y="10800"/>
                    </a:lnTo>
                    <a:lnTo>
                      <a:pt x="121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49"/>
            <p:cNvGrpSpPr/>
            <p:nvPr/>
          </p:nvGrpSpPr>
          <p:grpSpPr>
            <a:xfrm>
              <a:off x="6967800" y="4489200"/>
              <a:ext cx="939600" cy="281520"/>
              <a:chOff x="6967800" y="4489200"/>
              <a:chExt cx="939600" cy="281520"/>
            </a:xfrm>
          </p:grpSpPr>
          <p:sp>
            <p:nvSpPr>
              <p:cNvPr id="1235" name="AutoShape 50"/>
              <p:cNvSpPr/>
              <p:nvPr/>
            </p:nvSpPr>
            <p:spPr>
              <a:xfrm rot="11130600">
                <a:off x="6971760" y="4611960"/>
                <a:ext cx="423000" cy="101520"/>
              </a:xfrm>
              <a:custGeom>
                <a:avLst/>
                <a:gdLst>
                  <a:gd name="textAreaLeft" fmla="*/ 0 w 423000"/>
                  <a:gd name="textAreaRight" fmla="*/ 423360 w 4230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" y="0"/>
                    </a:lnTo>
                    <a:lnTo>
                      <a:pt x="21600" y="10800"/>
                    </a:lnTo>
                    <a:lnTo>
                      <a:pt x="1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AutoShape 51"/>
              <p:cNvSpPr/>
              <p:nvPr/>
            </p:nvSpPr>
            <p:spPr>
              <a:xfrm rot="19993800">
                <a:off x="7483680" y="4578840"/>
                <a:ext cx="423360" cy="10152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Oval 86"/>
            <p:cNvSpPr/>
            <p:nvPr/>
          </p:nvSpPr>
          <p:spPr>
            <a:xfrm>
              <a:off x="7380360" y="4623120"/>
              <a:ext cx="13464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文本框 349"/>
          <p:cNvSpPr/>
          <p:nvPr/>
        </p:nvSpPr>
        <p:spPr>
          <a:xfrm>
            <a:off x="1803240" y="313848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文本框 351"/>
          <p:cNvSpPr/>
          <p:nvPr/>
        </p:nvSpPr>
        <p:spPr>
          <a:xfrm>
            <a:off x="4892760" y="313704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: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文本框 352"/>
          <p:cNvSpPr/>
          <p:nvPr/>
        </p:nvSpPr>
        <p:spPr>
          <a:xfrm>
            <a:off x="7807320" y="313524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文本框 353"/>
          <p:cNvSpPr/>
          <p:nvPr/>
        </p:nvSpPr>
        <p:spPr>
          <a:xfrm>
            <a:off x="1881360" y="5753160"/>
            <a:ext cx="8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文本框 354"/>
          <p:cNvSpPr/>
          <p:nvPr/>
        </p:nvSpPr>
        <p:spPr>
          <a:xfrm>
            <a:off x="4889520" y="574524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: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文本框 355"/>
          <p:cNvSpPr/>
          <p:nvPr/>
        </p:nvSpPr>
        <p:spPr>
          <a:xfrm>
            <a:off x="7813800" y="575136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: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5:28:00Z</dcterms:created>
  <dc:creator/>
  <dc:description/>
  <dc:language>en-US</dc:language>
  <cp:lastModifiedBy>万润仪器贸易公司</cp:lastModifiedBy>
  <dcterms:modified xsi:type="dcterms:W3CDTF">2020-08-21T00:44:51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